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58400" cy="7772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2440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6792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2440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6792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A452-37BF-4769-8E0A-3D101FFC9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B985-C0D7-47F0-BE75-C81732EE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6FDC-9FC7-4F04-ADB3-8D5D64F2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2F88-7BB6-4B09-A3C9-A2D7F43B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2F6E-B7E6-4470-8B3A-BFE50DFE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3520" y="258840"/>
            <a:ext cx="899136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01EE-129E-4AA7-82DB-E74AC19D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17C4-A86F-415C-B1D9-A9A20E88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EF86-9C4D-41A3-9AF9-E52C3AF4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EFEA-6319-4E34-8340-F8EC6367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08B1-B9AE-4516-AEA9-82683B9F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4742-E718-4405-87A6-BBCC69A76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2440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6792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8088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2440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6792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4646-05B0-4922-B161-4D39050A3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520" y="258840"/>
            <a:ext cx="899136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-252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63680" indent="-252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63680" indent="-2523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63680" indent="-2523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066680"/>
            <a:ext cx="929664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00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6632640"/>
            <a:ext cx="10064880" cy="11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0" y="6570720"/>
            <a:ext cx="10066320" cy="1219320"/>
            <a:chOff x="0" y="6570720"/>
            <a:chExt cx="10066320" cy="1219320"/>
          </a:xfrm>
        </p:grpSpPr>
        <p:sp>
          <p:nvSpPr>
            <p:cNvPr id="41" name=""/>
            <p:cNvSpPr/>
            <p:nvPr/>
          </p:nvSpPr>
          <p:spPr>
            <a:xfrm>
              <a:off x="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5564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3360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30976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08772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6388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2132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9604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19452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99120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81056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60904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434520" y="6881760"/>
              <a:ext cx="631800" cy="908280"/>
            </a:xfrm>
            <a:custGeom>
              <a:avLst/>
              <a:gdLst/>
              <a:ahLst/>
              <a:rect l="l" t="t" r="r" b="b"/>
              <a:pathLst>
                <a:path w="398" h="572">
                  <a:moveTo>
                    <a:pt x="0" y="571"/>
                  </a:moveTo>
                  <a:lnTo>
                    <a:pt x="397" y="0"/>
                  </a:lnTo>
                  <a:lnTo>
                    <a:pt x="397" y="139"/>
                  </a:lnTo>
                  <a:lnTo>
                    <a:pt x="105" y="571"/>
                  </a:lnTo>
                  <a:lnTo>
                    <a:pt x="0" y="57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3129120"/>
            <a:ext cx="900000" cy="1641240"/>
          </a:xfrm>
          <a:custGeom>
            <a:avLst/>
            <a:gdLst/>
            <a:ahLst/>
            <a:rect l="l" t="t" r="r" b="b"/>
            <a:pathLst>
              <a:path w="567" h="1034">
                <a:moveTo>
                  <a:pt x="0" y="0"/>
                </a:moveTo>
                <a:lnTo>
                  <a:pt x="566" y="0"/>
                </a:lnTo>
                <a:lnTo>
                  <a:pt x="0" y="103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900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4200" y="2590920"/>
            <a:ext cx="855000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fld id="{70D309CF-ADDB-486A-A882-7F37C441CC52}" type="slidenum">
              <a:rPr b="0" lang="en-U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 algn="ctr">
              <a:spcBef>
                <a:spcPts val="601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6560" algn="ctr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804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132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11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11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4200" y="2590920"/>
            <a:ext cx="855000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vanced Pointer Top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inters to Functions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8175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typedef struct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float pr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char title[100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} book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int (*ptr_comp)(const book *, const book *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/* compare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int * ptr_comp(const book *, const book *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forget to initialize the pointer -- point the pointer to a real func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inters to Functions 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7200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#include &lt;string.h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compare_price(const book * p, const book *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return p-&gt;price-q-&gt;pric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compare_title(const book * p, const book *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return strcmp(p-&gt;title,q-&gt; titl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05520" y="1142640"/>
            <a:ext cx="457200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main( 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book a,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.price=19.99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rcpy(a.title, "unix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b.price=20.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rcpy(b.title, "c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tr_comp = compare_pric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("%d", ptr_comp(&amp;a, &amp;b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tr_comp = compare_tit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("%d", ptr_comp(&amp;a, &amp;b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:  The qsort() Function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, you want to sort something using the quick sort algorithm.  C provides a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qsort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 in its standard library.  Here is the prototyp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YNOP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#include &lt;stdlib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void  qsort(void  *base,  size_t  nel,  size_t  width,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(*compar)(const void *, const void *)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b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gument points to the element at the base of  the array to sort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n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gument is the number of elements in the table.  The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wid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gument specifies the size of  each  element in by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omp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gument is a pointer to the comparison function, which is called with two arguments  that     point to the elements being compa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:  The qsort() Function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#include &lt;stdlib.h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book my_books[1000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qsort(my_books, 1000, sizeof(book), compare_pric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qsort(my_books, 1000, sizeof(book), compare_titl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allocating Dynamic Struc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very call to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mallo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d to build a dynamically allocated structure, there should be a corresponding call to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fr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able inside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mallo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fr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eeps track of the starting addresses of all allocated blocks from the heap, along with their siz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n address is passed to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fr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t is looked up in the table, and the correct amount of space is dealloc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not deallocate just part of a string or any other allocated blo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main(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 *p = malloc(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(p+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f("Finsished!\n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inters to Poin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982980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9000"/>
          </a:bodyPr>
          <a:p>
            <a:pPr marL="374040" indent="-3740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inter variabl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a vari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takes some memory address as its value.  Therefore, you can have another pointer pointing to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int x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int * px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int ** ppx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ppx = &amp;px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px = &amp;x;       /* i.e. *ppx = &amp;x 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**ppx = 10;  /*  i.e. *px =10;  i.e. x=10; 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ppx = (int **) malloc(sizeof(int *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**ppx = 20;  /* Wrong, since *ppx is uninitialized! 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rays of Pointers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6000"/>
          </a:bodyPr>
          <a:p>
            <a:pPr marL="362880" indent="-36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have an array of structures, each structure can potentially be very bi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2880" indent="-36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ort such an array, a lot of memory copying and movements are necessary, which can be expens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2880" indent="-36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fficiency, we can use array of pointers inste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uct book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loat pric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har abstract[5000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uct book book_ary[1000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uct book * pbook_ary[1000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or(i=0;i&lt;1000;i+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book_ary[i] = &amp;book_ary[i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rays of Pointers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void my_sort(struct book * pbook_ary[ ], int siz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i, j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uct book *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or(i=1;i&lt;size;i++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=pbook_ary[i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or(j=i-1;j&gt;=0;j-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f(pbook_ary[ j ] -&gt; price &gt; p -&gt; pr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book_ary[ j+1 ]= pbook_ary[ j 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el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brea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book_ary[ j+1 ] = 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rays of Pointers 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9296640" cy="6172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uct book ** search_range(struct book * pbook_ary[ ], int size, float low, float high, int *nu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i, j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or(i=0;i&lt;size;i+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f(pbook_ary[i] -&gt; price &gt;= low) brea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or( j=size; j&gt;0;j-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f(pbook_ary[ j] -&gt; price &lt;= high) brea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/* i , i+1, …, j  are the elements in the range */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*num = j – i + 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return &amp;pbook_ary[ i 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ynamic Two Dimensional Arr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** ar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m, 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rand( time(NULL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m = rand( ) % 5000 +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ary = (int **) malloc( m * sizeof(int *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or( j =0; j&lt; m; j++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ary[ j ]= (int *) malloc ( (j+1) *sizeof(int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ary[3][4] = 6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*( *( ary + 3) + 4) = 6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ary-&gt;[3]-&gt;[4] = 6;   /* NO! You can not do this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 Pointers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con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eyword has a different meaning when applied to poin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void test( const int k, const int * 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k ++;      /* 1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(*m) ++;  /*  2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m ++;      /*  3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rintf("%d,%d", k, *m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piler will warn you about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ncrements, but not the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 Pointers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eason we use </a:t>
            </a:r>
            <a:r>
              <a:rPr b="0" lang="en-US" sz="3600" spc="-1" strike="noStrike">
                <a:solidFill>
                  <a:srgbClr val="9900cc"/>
                </a:solidFill>
                <a:latin typeface="Arial"/>
              </a:rPr>
              <a:t>con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efore parameters is to indicate that we will not modify the value of the corresponding parameter inside the function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901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example:  we would not worry about the </a:t>
            </a:r>
            <a:r>
              <a:rPr b="0" lang="en-US" sz="3600" spc="-1" strike="noStrike">
                <a:solidFill>
                  <a:srgbClr val="9900cc"/>
                </a:solidFill>
                <a:latin typeface="Arial"/>
              </a:rPr>
              <a:t>format_st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s going to be modified by </a:t>
            </a:r>
            <a:r>
              <a:rPr b="0" lang="en-US" sz="3600" spc="-1" strike="noStrike">
                <a:solidFill>
                  <a:srgbClr val="9900cc"/>
                </a:solidFill>
                <a:latin typeface="Arial"/>
              </a:rPr>
              <a:t>printf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when we look at its prototyp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int printf(const char * format_str, ……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inters to Functions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a pointer merely contains an address, it can point to anything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nction also has an address -- it must be loaded in to memory somewhere to be execut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we can also point a pointer to a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int (*compare)(int, in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25080" y="5575320"/>
            <a:ext cx="5010120" cy="1556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1. Compare is a poin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2. To a fu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3. That returns an int va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6240800">
            <a:off x="2361960" y="3962160"/>
            <a:ext cx="380880" cy="1600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40800">
            <a:off x="3502800" y="4280760"/>
            <a:ext cx="380880" cy="2208240"/>
          </a:xfrm>
          <a:custGeom>
            <a:avLst/>
            <a:gdLst>
              <a:gd name="textAreaLeft" fmla="*/ 243360 w 380880"/>
              <a:gd name="textAreaRight" fmla="*/ 381240 w 380880"/>
              <a:gd name="textAreaTop" fmla="*/ 57600 h 2208240"/>
              <a:gd name="textAreaBottom" fmla="*/ 2150640 h 2208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40800">
            <a:off x="2208960" y="4802760"/>
            <a:ext cx="380880" cy="2513160"/>
          </a:xfrm>
          <a:custGeom>
            <a:avLst/>
            <a:gdLst>
              <a:gd name="textAreaLeft" fmla="*/ 243360 w 380880"/>
              <a:gd name="textAreaRight" fmla="*/ 381240 w 380880"/>
              <a:gd name="textAreaTop" fmla="*/ 65520 h 2513160"/>
              <a:gd name="textAreaBottom" fmla="*/ 2447640 h 251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29160" y="4853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5160" y="5575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75280" y="6249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23T21:17:46Z</dcterms:created>
  <dc:creator>Mike Katchabaw</dc:creator>
  <dc:description/>
  <dc:language>en-US</dc:language>
  <cp:lastModifiedBy>Bin Ma</cp:lastModifiedBy>
  <cp:lastPrinted>1998-07-26T16:47:22Z</cp:lastPrinted>
  <dcterms:modified xsi:type="dcterms:W3CDTF">2003-11-18T03:00:42Z</dcterms:modified>
  <cp:revision>1646</cp:revision>
  <dc:subject/>
  <dc:title>CS211 Slid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d.uwo.ca/courses/CS211b</vt:lpwstr>
  </property>
  <property fmtid="{D5CDD505-2E9C-101B-9397-08002B2CF9AE}" pid="9" name="LinkColor">
    <vt:r8>16711782</vt:r8>
  </property>
  <property fmtid="{D5CDD505-2E9C-101B-9397-08002B2CF9AE}" pid="10" name="MailAddress">
    <vt:lpwstr>katchab@csd.uwo.ca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WINDOWS\DESKTOP\cs211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